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61F724-E0C9-455B-AACC-F1A25FE4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rigor is not related to volume of work or the harshness of our instruc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elationship between rigor and 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ury Skil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not be as important a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, in other words, knowing how to solve problems using Critical thinking ski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etencies matter more than cover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ury skills world requires students to have g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 skill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 solving sk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work in teams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can academic rigor support what the future adults will need to succeed in the new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stitutes a thinking curriculum? Commitment to knowledge, high thinking demand and active use of knowledge.  We will review those 3 components of a thinking curriculum.  The first is commitment to a knowledg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mponent of a thinking curriculum is a high thinking demand.  Begin to think of those activities or tasks that reflect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ird component of a thinking curriculum.  What learning activities or tasks require students to actively use their knowledg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stitutes a thinking curriculum? Commitment to knowledge, high thinking demand and active use of knowledge.  We will review those 3 components of a thinking curriculum.  The first is commitment to a knowledg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obin handing out diplomas – think about your favorite tea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eachers from MS and ES levels – PE, Art, Music, Technology, Family and Consume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presentation relate to them and every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obin handing out diplomas – think about your favorite tea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agenda, answer any questions. We will have a break this mo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 one of our guiding questions to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define rigor and relev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today we are talking about Rigor, Relevance and Relationships in the context of our practice in order to make students proficient in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be connecting Rigor with instruction and ultimately assessment and gr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or : Curriculum to succeed in College and the world of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at statement is very accessible and self explanator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really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 th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ing academic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ciency and mastery, (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skills) in essence providing student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looking at classroom instruction containing rigor we are talking ab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proces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t is ta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ther words, Rigor has as main compon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iculum, Instruction and Assessmen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54D-997C-4423-8B00-8E14EE50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ABC-0E09-46E8-A019-9430DA3E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D94-7070-419B-A96E-053E70FF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602-96B6-45C5-975A-CD5237DB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F73-FF06-48B8-B1A3-6E3900EF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990-3D6E-477A-A062-15204740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F6B-4B98-42DC-9ABA-9C651865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6CE-1E75-4DFD-9631-3E795C4A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392-C15A-46C7-9D00-025656CD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64F-4ECD-437E-A7AC-AB28A5E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40E-ED94-44C2-BC0D-8C3BC6F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403-1A7C-415D-A3E8-7C1FBBC3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A791-B238-47B7-B139-F4471F9DB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Central School Distri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empus Sans ITC"/>
              </a:rPr>
              <a:t>Making the GRADES Rigorous </a:t>
            </a:r>
            <a:br>
              <a:rPr sz="3600"/>
            </a:br>
            <a:r>
              <a:rPr b="1" lang="en-US" sz="3600" spc="-1" strike="noStrike">
                <a:solidFill>
                  <a:srgbClr val="009900"/>
                </a:solidFill>
                <a:latin typeface="Tempus Sans ITC"/>
              </a:rPr>
              <a:t>2010-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undamental premise: “What students learn may not be as important as knowing how to solve new problems, using so-called </a:t>
            </a:r>
            <a:r>
              <a:rPr b="0" i="1" lang="en-US" sz="3200" spc="-1" strike="noStrike">
                <a:solidFill>
                  <a:srgbClr val="ff0000"/>
                </a:solidFill>
                <a:latin typeface="Tempus Sans ITC"/>
              </a:rPr>
              <a:t>critical thinking skills</a:t>
            </a: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In a modern-information driven world, where information changes constantly, and can be accessed on any computer,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competencie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matter far more than content co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1062600">
            <a:off x="5798880" y="5045040"/>
            <a:ext cx="19047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Features and Indicators of Academic </a:t>
            </a: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Rig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High Think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Active Use of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89720" y="3886200"/>
            <a:ext cx="16938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An articulate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that avoids needless repetition,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instruction 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organized around major concepts, and teaching an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assessmen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 focused on the mastery of core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2185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0" i="1" lang="en-US" sz="4400" spc="-1" strike="noStrike">
                <a:solidFill>
                  <a:srgbClr val="000000"/>
                </a:solidFill>
                <a:latin typeface="Tempus Sans ITC"/>
              </a:rPr>
              <a:t>High Thinking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tudents are expected to raise questions, to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solve problem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, with challenging assignments including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extended project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in which they construct explanations, they justify answers while allowing for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eflection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on learning processes and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05320" y="4876920"/>
            <a:ext cx="22096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0" i="1" lang="en-US" sz="4400" spc="-1" strike="noStrike">
                <a:solidFill>
                  <a:srgbClr val="000000"/>
                </a:solidFill>
                <a:latin typeface="Tempus Sans ITC"/>
              </a:rPr>
              <a:t>Active Use of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Synthesize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sources of information, discussing concepts,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applying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prior knowledge an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interpreting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texts and constructing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52680" y="3657600"/>
            <a:ext cx="23623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Features and Indicators of Academic Rig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High Think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Active Use of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705720" y="4343400"/>
            <a:ext cx="18208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2</a:t>
            </a:r>
            <a:r>
              <a:rPr b="0" lang="en-US" sz="4400" spc="-1" strike="noStrike" baseline="30000">
                <a:solidFill>
                  <a:srgbClr val="008000"/>
                </a:solidFill>
                <a:latin typeface="Tempus Sans ITC"/>
              </a:rPr>
              <a:t>nd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 focu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How can we make our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grading and assessment systems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rigorous? How can we align course expectations/goals with relevant instruction and a rigorous, consistent grading and assessment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empus Sans ITC"/>
              </a:rPr>
              <a:t>Handouts: 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Action Plan and</a:t>
            </a:r>
            <a:r>
              <a:rPr b="0" lang="en-US" sz="2000" spc="-1" strike="noStrike">
                <a:solidFill>
                  <a:srgbClr val="cc0000"/>
                </a:solidFill>
                <a:latin typeface="Tempus Sans ITC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empus Sans ITC"/>
              </a:rPr>
              <a:t>Classroom Evidenc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657600" y="2743200"/>
            <a:ext cx="18446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3</a:t>
            </a:r>
            <a:r>
              <a:rPr b="0" lang="en-US" sz="4400" spc="-1" strike="noStrike" baseline="30000">
                <a:solidFill>
                  <a:srgbClr val="008000"/>
                </a:solidFill>
                <a:latin typeface="Tempus Sans ITC"/>
              </a:rPr>
              <a:t>rd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 focu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Where are we now and where are we going as a district in preparing students for </a:t>
            </a: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college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career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citizenship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in the 21st century ski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empus Sans ITC"/>
              </a:rPr>
              <a:t>Note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: Visual representation of District’s Instructional Vision -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3619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Where are we go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Deepening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+ Ens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elevance 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+ Enhancing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Century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tudents prepared for: College, Careers and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539400">
            <a:off x="7162920" y="5333760"/>
            <a:ext cx="1768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0" y="2030400"/>
            <a:ext cx="5257800" cy="4827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Staff Development Day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September 2, 2010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Tempus Sans ITC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2590560"/>
            <a:ext cx="5715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en-US" sz="3600" spc="-1" strike="noStrike">
                <a:solidFill>
                  <a:srgbClr val="008000"/>
                </a:solidFill>
                <a:latin typeface="Tempus Sans ITC"/>
              </a:rPr>
              <a:t>Faculty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igor and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Grading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empus Sans ITC"/>
              </a:rPr>
              <a:t>Department Meetings 9:30 – 11:30 AM, 12:45 – 3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empus Sans ITC"/>
              </a:rPr>
              <a:t>Lunch: 11:30 AM – 12:4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190476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NRH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F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8:30 AM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3: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Where are we go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Deepening </a:t>
            </a: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elationships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+ Ensu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elevance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+ Enhancing </a:t>
            </a: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Centu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Students prepared for: College, Careers and Citize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empus Sans ITC"/>
              </a:rPr>
              <a:t>Today’s Focus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733320"/>
            <a:ext cx="7315200" cy="66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What makes a learning experience </a:t>
            </a: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rigorous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ow can we make our </a:t>
            </a: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grading and assessment systems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rigorous? How can we align course expectations/goals with relevant instruction and a rigorous, consistent grading and assessment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Where are we now and where are we going as a district in preparing students for </a:t>
            </a: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college, careers and citizenship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in th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century skill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841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1</a:t>
            </a:r>
            <a:r>
              <a:rPr b="0" lang="en-US" sz="4400" spc="-1" strike="noStrike" baseline="30000">
                <a:solidFill>
                  <a:srgbClr val="008000"/>
                </a:solidFill>
                <a:latin typeface="Tempus Sans ITC"/>
              </a:rPr>
              <a:t>st</a:t>
            </a: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 focus question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What makes a learning experience </a:t>
            </a:r>
            <a:r>
              <a:rPr b="0" i="1" lang="en-US" sz="3200" spc="-1" strike="noStrike">
                <a:solidFill>
                  <a:srgbClr val="cc0000"/>
                </a:solidFill>
                <a:latin typeface="Tempus Sans ITC"/>
              </a:rPr>
              <a:t>rigorou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09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Defining </a:t>
            </a:r>
            <a:r>
              <a:rPr b="0" i="1" lang="en-US" sz="4400" spc="-1" strike="noStrike">
                <a:solidFill>
                  <a:srgbClr val="cc0000"/>
                </a:solidFill>
                <a:latin typeface="Tempus Sans ITC"/>
              </a:rPr>
              <a:t>Rigor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 in the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cademic rigor quite simply means giving students a curriculum that will prepare them to succeed in college or the world of work. That translates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Maintaining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high expectations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for all students and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ngaging students in higher order tasks requiring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critical thinking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aptivating students with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challenging academic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monstrating student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proficiency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while reaching for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mastery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of all academic content and 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2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empus Sans ITC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 century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848720" y="502920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omponents of Rig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f Academic Rigor is determined not just by what is taught, but how it is taught and how it is assessed,* what are the components of Rig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In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. I. 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empus Sans ITC"/>
              </a:rPr>
              <a:t>(Barbara Blackburn, University of North Carolin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3429000"/>
            <a:ext cx="17193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empus Sans ITC"/>
              </a:rPr>
              <a:t>Rigor and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any educators equate rigor with pain, rigid thinking, and harshn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et’s give more homework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essons </a:t>
            </a:r>
            <a:r>
              <a:rPr b="0" i="1" lang="en-US" sz="2800" spc="-1" strike="noStrike">
                <a:solidFill>
                  <a:srgbClr val="000000"/>
                </a:solidFill>
                <a:latin typeface="Tempus Sans ITC"/>
              </a:rPr>
              <a:t>must be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‘rigorous’ if they make kids suff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people equate rigor with </a:t>
            </a:r>
            <a:r>
              <a:rPr b="0" i="1" lang="en-US" sz="2800" spc="-1" strike="noStrike">
                <a:solidFill>
                  <a:srgbClr val="ff0000"/>
                </a:solidFill>
                <a:latin typeface="Tempus Sans ITC"/>
              </a:rPr>
              <a:t>“rigor mortis”</a:t>
            </a:r>
            <a:r>
              <a:rPr b="0" i="1" lang="en-US" sz="28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970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Rigor and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re is a fear the some people may equate rigor with covering more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is is not necessarily an example of Academic Rig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2651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4:49:54Z</dcterms:created>
  <dc:creator>North Rockland High School</dc:creator>
  <dc:description/>
  <dc:language>en-US</dc:language>
  <cp:lastModifiedBy>North Rockland High School</cp:lastModifiedBy>
  <dcterms:modified xsi:type="dcterms:W3CDTF">2010-08-31T12:29:14Z</dcterms:modified>
  <cp:revision>16</cp:revision>
  <dc:subject/>
  <dc:title>Making the GRADE 2009-2010</dc:title>
</cp:coreProperties>
</file>